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81F5-A1AA-4A40-B82F-752EE81E0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4CC6-B20E-4863-991F-8414A2893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2B2B-01B2-414D-A0AA-5B1EDEEF8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EEEB-EF08-42B5-BF6E-83226B9EF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B8E8-BD98-4A19-9BBF-BF5597FEB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F8F0-F801-46D9-941F-F5E875D06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581D-FFB2-4C8A-B12E-394E7705B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1FE0-67E5-4149-9936-C1E630C3D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70C0-A107-4995-8093-842CC5E76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ABAF-2314-4370-9DA8-C6CF339F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816A-7BA2-4BB3-9ACB-8A21F5C4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65CC-0FAF-42D1-9124-5B6446F8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1FE5E-D068-46AC-896B-1A7FCE409E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454040" y="2647800"/>
            <a:ext cx="6904080" cy="374652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2"/>
          <p:cNvSpPr/>
          <p:nvPr/>
        </p:nvSpPr>
        <p:spPr>
          <a:xfrm>
            <a:off x="3469320" y="79740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让世界充满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5829480" y="1700280"/>
            <a:ext cx="178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--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综合性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4"/>
          <p:cNvSpPr/>
          <p:nvPr/>
        </p:nvSpPr>
        <p:spPr>
          <a:xfrm>
            <a:off x="826920" y="260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八年级语文</a:t>
            </a: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·</a:t>
            </a: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上  新课标</a:t>
            </a: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[</a:t>
            </a: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人</a:t>
            </a: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zhxx.jpg" descr=""/>
          <p:cNvPicPr/>
          <p:nvPr/>
        </p:nvPicPr>
        <p:blipFill>
          <a:blip r:embed="rId1"/>
          <a:stretch/>
        </p:blipFill>
        <p:spPr>
          <a:xfrm>
            <a:off x="2411280" y="189000"/>
            <a:ext cx="3745080" cy="720720"/>
          </a:xfrm>
          <a:prstGeom prst="rect">
            <a:avLst/>
          </a:prstGeom>
          <a:ln w="0">
            <a:noFill/>
          </a:ln>
        </p:spPr>
      </p:pic>
      <p:pic>
        <p:nvPicPr>
          <p:cNvPr id="46" name="qscg.jpg" descr=""/>
          <p:cNvPicPr/>
          <p:nvPr/>
        </p:nvPicPr>
        <p:blipFill>
          <a:blip r:embed="rId2"/>
          <a:stretch/>
        </p:blipFill>
        <p:spPr>
          <a:xfrm>
            <a:off x="6443640" y="404640"/>
            <a:ext cx="1944720" cy="432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"/>
          <p:cNvSpPr/>
          <p:nvPr/>
        </p:nvSpPr>
        <p:spPr>
          <a:xfrm>
            <a:off x="1571760" y="1041120"/>
            <a:ext cx="5847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语拟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鲁甸地震发生后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校组织“我为灾区儿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献爱心”的捐助活动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同学们纷纷伸出援助之手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的捐钱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的捐物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都献出了自己的爱心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并希望灾区儿童能感受到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连心的温暖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微笑着迎接祖国美好的明天。以下是学生会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席为本次活动拟出的宣传标语的上句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你根据画线文字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出下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上句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伸出援手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手拉手战胜困难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9"/>
          <p:cNvSpPr/>
          <p:nvPr/>
        </p:nvSpPr>
        <p:spPr>
          <a:xfrm>
            <a:off x="1016280" y="5516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0"/>
          <p:cNvSpPr/>
          <p:nvPr/>
        </p:nvSpPr>
        <p:spPr>
          <a:xfrm>
            <a:off x="1763640" y="5373720"/>
            <a:ext cx="56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示例一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献出爱心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心连心笑迎明天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示例二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献出爱心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心连心迎接明天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直接连接符 12"/>
          <p:cNvSpPr/>
          <p:nvPr/>
        </p:nvSpPr>
        <p:spPr>
          <a:xfrm flipV="1">
            <a:off x="1763640" y="5877000"/>
            <a:ext cx="4753080" cy="63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直接连接符 13"/>
          <p:cNvSpPr/>
          <p:nvPr/>
        </p:nvSpPr>
        <p:spPr>
          <a:xfrm flipV="1">
            <a:off x="1692360" y="6453360"/>
            <a:ext cx="4751280" cy="63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直接连接符 14"/>
          <p:cNvSpPr/>
          <p:nvPr/>
        </p:nvSpPr>
        <p:spPr>
          <a:xfrm flipV="1">
            <a:off x="1908000" y="3212640"/>
            <a:ext cx="6480360" cy="63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直接连接符 16"/>
          <p:cNvSpPr/>
          <p:nvPr/>
        </p:nvSpPr>
        <p:spPr>
          <a:xfrm flipV="1">
            <a:off x="539640" y="3789360"/>
            <a:ext cx="5256360" cy="63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zhxx.jpg" descr=""/>
          <p:cNvPicPr/>
          <p:nvPr/>
        </p:nvPicPr>
        <p:blipFill>
          <a:blip r:embed="rId1"/>
          <a:stretch/>
        </p:blipFill>
        <p:spPr>
          <a:xfrm>
            <a:off x="1403280" y="189000"/>
            <a:ext cx="3745080" cy="720720"/>
          </a:xfrm>
          <a:prstGeom prst="rect">
            <a:avLst/>
          </a:prstGeom>
          <a:ln w="0">
            <a:noFill/>
          </a:ln>
        </p:spPr>
      </p:pic>
      <p:pic>
        <p:nvPicPr>
          <p:cNvPr id="55" name="qscg.jpg" descr=""/>
          <p:cNvPicPr/>
          <p:nvPr/>
        </p:nvPicPr>
        <p:blipFill>
          <a:blip r:embed="rId2"/>
          <a:stretch/>
        </p:blipFill>
        <p:spPr>
          <a:xfrm>
            <a:off x="6012000" y="331920"/>
            <a:ext cx="1944720" cy="4330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"/>
          <p:cNvSpPr/>
          <p:nvPr/>
        </p:nvSpPr>
        <p:spPr>
          <a:xfrm>
            <a:off x="2291400" y="1216080"/>
            <a:ext cx="446616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栏目设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班级要办一期“奉献爱心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我传递”为主题的黑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报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你仿照栏目示例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再给黑板报设计两个栏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栏目示例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爱的故事我来讲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栏目设计一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栏目设计二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6"/>
          <p:cNvSpPr/>
          <p:nvPr/>
        </p:nvSpPr>
        <p:spPr>
          <a:xfrm>
            <a:off x="2627280" y="3645000"/>
            <a:ext cx="6337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①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爱的诗词我来吟　②爱的名言我来说　③爱的誓言我来写　④爱的建议我来提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直接连接符 8"/>
          <p:cNvSpPr/>
          <p:nvPr/>
        </p:nvSpPr>
        <p:spPr>
          <a:xfrm>
            <a:off x="2771640" y="4292640"/>
            <a:ext cx="590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直接连接符 10"/>
          <p:cNvSpPr/>
          <p:nvPr/>
        </p:nvSpPr>
        <p:spPr>
          <a:xfrm>
            <a:off x="2843280" y="5013360"/>
            <a:ext cx="5905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zhxx.jpg" descr=""/>
          <p:cNvPicPr/>
          <p:nvPr/>
        </p:nvPicPr>
        <p:blipFill>
          <a:blip r:embed="rId1"/>
          <a:stretch/>
        </p:blipFill>
        <p:spPr>
          <a:xfrm>
            <a:off x="1403280" y="189000"/>
            <a:ext cx="3745080" cy="720720"/>
          </a:xfrm>
          <a:prstGeom prst="rect">
            <a:avLst/>
          </a:prstGeom>
          <a:ln w="0">
            <a:noFill/>
          </a:ln>
        </p:spPr>
      </p:pic>
      <p:pic>
        <p:nvPicPr>
          <p:cNvPr id="61" name="qscg.jpg" descr=""/>
          <p:cNvPicPr/>
          <p:nvPr/>
        </p:nvPicPr>
        <p:blipFill>
          <a:blip r:embed="rId2"/>
          <a:stretch/>
        </p:blipFill>
        <p:spPr>
          <a:xfrm>
            <a:off x="6012000" y="331920"/>
            <a:ext cx="1944720" cy="43308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"/>
          <p:cNvSpPr/>
          <p:nvPr/>
        </p:nvSpPr>
        <p:spPr>
          <a:xfrm>
            <a:off x="1778400" y="977760"/>
            <a:ext cx="570276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材料探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阅读下面材料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写出你的探究结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材料一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湖北襄阳的杨忠共从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79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开始用捡破烂、卖棉花糖攒下来的钱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持续捐助贫困生。据当地教育部门粗略统计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34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来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受他捐助的学校有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所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金额达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万元。杨忠共说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能把爱心奉献给孩子们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自己最大的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材料二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颜拥军是名爱心公益志愿者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他投资近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00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元创办襄阳展颜特殊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育学校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接纳自闭症以及其他智障儿童。他说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尽管每年都还贴钱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但看到有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子顺利转入普通学校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看到孩子们每天都有进步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己能为这些孩子奉献点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心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就觉得很满足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很快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探究结果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1476360" y="5516640"/>
            <a:ext cx="684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示例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:①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帮助他人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快乐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(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幸福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自己。　②献给别人爱心的同时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自己也享受了助人的快乐。　③赠人玫瑰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手有余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直接连接符 8"/>
          <p:cNvSpPr/>
          <p:nvPr/>
        </p:nvSpPr>
        <p:spPr>
          <a:xfrm>
            <a:off x="1619280" y="6021360"/>
            <a:ext cx="6481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直接连接符 10"/>
          <p:cNvSpPr/>
          <p:nvPr/>
        </p:nvSpPr>
        <p:spPr>
          <a:xfrm>
            <a:off x="1619280" y="6453360"/>
            <a:ext cx="5905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zhxx.jpg" descr=""/>
          <p:cNvPicPr/>
          <p:nvPr/>
        </p:nvPicPr>
        <p:blipFill>
          <a:blip r:embed="rId1"/>
          <a:stretch/>
        </p:blipFill>
        <p:spPr>
          <a:xfrm>
            <a:off x="1403280" y="189000"/>
            <a:ext cx="3745080" cy="720720"/>
          </a:xfrm>
          <a:prstGeom prst="rect">
            <a:avLst/>
          </a:prstGeom>
          <a:ln w="0">
            <a:noFill/>
          </a:ln>
        </p:spPr>
      </p:pic>
      <p:pic>
        <p:nvPicPr>
          <p:cNvPr id="67" name="qscg.jpg" descr=""/>
          <p:cNvPicPr/>
          <p:nvPr/>
        </p:nvPicPr>
        <p:blipFill>
          <a:blip r:embed="rId2"/>
          <a:stretch/>
        </p:blipFill>
        <p:spPr>
          <a:xfrm>
            <a:off x="6012000" y="331920"/>
            <a:ext cx="1944720" cy="4330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"/>
          <p:cNvSpPr/>
          <p:nvPr/>
        </p:nvSpPr>
        <p:spPr>
          <a:xfrm>
            <a:off x="2693160" y="1418400"/>
            <a:ext cx="4356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体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参加完系列爱心活动之后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你谈谈对“爱”的理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2965320" y="2971800"/>
            <a:ext cx="34786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示例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爱是一种美好的情感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爱是一种善良的品德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;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是温柔的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爱是甜蜜的。人类需要爱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!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世界需要爱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!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我们每个人都把爱奉献出来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让我们一同走进爱的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界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一起分享爱的阳光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圆角矩形标注 6"/>
          <p:cNvSpPr/>
          <p:nvPr/>
        </p:nvSpPr>
        <p:spPr>
          <a:xfrm>
            <a:off x="395280" y="2924280"/>
            <a:ext cx="8497800" cy="3097080"/>
          </a:xfrm>
          <a:prstGeom prst="wedgeRoundRectCallout">
            <a:avLst>
              <a:gd name="adj1" fmla="val 37726"/>
              <a:gd name="adj2" fmla="val -56393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" dur="2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zhxx.jpg" descr=""/>
          <p:cNvPicPr/>
          <p:nvPr/>
        </p:nvPicPr>
        <p:blipFill>
          <a:blip r:embed="rId1"/>
          <a:stretch/>
        </p:blipFill>
        <p:spPr>
          <a:xfrm>
            <a:off x="1403280" y="189000"/>
            <a:ext cx="3745080" cy="720720"/>
          </a:xfrm>
          <a:prstGeom prst="rect">
            <a:avLst/>
          </a:prstGeom>
          <a:ln w="0">
            <a:noFill/>
          </a:ln>
        </p:spPr>
      </p:pic>
      <p:pic>
        <p:nvPicPr>
          <p:cNvPr id="72" name="scjn.jpg" descr=""/>
          <p:cNvPicPr/>
          <p:nvPr/>
        </p:nvPicPr>
        <p:blipFill>
          <a:blip r:embed="rId2"/>
          <a:stretch/>
        </p:blipFill>
        <p:spPr>
          <a:xfrm>
            <a:off x="6083280" y="260280"/>
            <a:ext cx="1873440" cy="432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"/>
          <p:cNvSpPr/>
          <p:nvPr/>
        </p:nvSpPr>
        <p:spPr>
          <a:xfrm>
            <a:off x="2077200" y="1184040"/>
            <a:ext cx="4854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诗坛品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描写人间真情的古诗词句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◆投我以桃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报之以李。——《诗经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雅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抑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◆一日不见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三秋兮。——《诗经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王风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采葛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◆嘤嘤鸣矣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求其友声。——《诗经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雅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伐木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◆投我以木瓜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报之以琼琚。——《诗经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卫风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木瓜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◆结交在相知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骨肉何必亲。——汉乐府民歌《箜篌谣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◆举手长劳劳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情同依依。——汉乐府民歌《孔雀东南飞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对角圆角矩形 5"/>
          <p:cNvSpPr/>
          <p:nvPr/>
        </p:nvSpPr>
        <p:spPr>
          <a:xfrm>
            <a:off x="179280" y="1197000"/>
            <a:ext cx="8569440" cy="4753080"/>
          </a:xfrm>
          <a:custGeom>
            <a:avLst/>
            <a:gdLst/>
            <a:ahLst/>
            <a:rect l="l" t="t" r="r" b="b"/>
            <a:pathLst>
              <a:path w="8568952" h="4752528">
                <a:moveTo>
                  <a:pt x="792103" y="0"/>
                </a:moveTo>
                <a:lnTo>
                  <a:pt x="8568952" y="0"/>
                </a:lnTo>
                <a:lnTo>
                  <a:pt x="8568952" y="0"/>
                </a:lnTo>
                <a:lnTo>
                  <a:pt x="8568952" y="3960424"/>
                </a:lnTo>
                <a:cubicBezTo>
                  <a:pt x="8568952" y="4397890"/>
                  <a:pt x="8214315" y="4752527"/>
                  <a:pt x="7776849" y="4752527"/>
                </a:cubicBezTo>
                <a:lnTo>
                  <a:pt x="0" y="4752528"/>
                </a:lnTo>
                <a:lnTo>
                  <a:pt x="0" y="4752528"/>
                </a:lnTo>
                <a:lnTo>
                  <a:pt x="0" y="792103"/>
                </a:lnTo>
                <a:cubicBezTo>
                  <a:pt x="0" y="354637"/>
                  <a:pt x="354637" y="0"/>
                  <a:pt x="792103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2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2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2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2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20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20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20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zhxx.jpg" descr=""/>
          <p:cNvPicPr/>
          <p:nvPr/>
        </p:nvPicPr>
        <p:blipFill>
          <a:blip r:embed="rId1"/>
          <a:stretch/>
        </p:blipFill>
        <p:spPr>
          <a:xfrm>
            <a:off x="1403280" y="189000"/>
            <a:ext cx="3745080" cy="720720"/>
          </a:xfrm>
          <a:prstGeom prst="rect">
            <a:avLst/>
          </a:prstGeom>
          <a:ln w="0">
            <a:noFill/>
          </a:ln>
        </p:spPr>
      </p:pic>
      <p:pic>
        <p:nvPicPr>
          <p:cNvPr id="76" name="scjn.jpg" descr=""/>
          <p:cNvPicPr/>
          <p:nvPr/>
        </p:nvPicPr>
        <p:blipFill>
          <a:blip r:embed="rId2"/>
          <a:stretch/>
        </p:blipFill>
        <p:spPr>
          <a:xfrm>
            <a:off x="6083280" y="260280"/>
            <a:ext cx="1873440" cy="432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2"/>
          <p:cNvSpPr/>
          <p:nvPr/>
        </p:nvSpPr>
        <p:spPr>
          <a:xfrm>
            <a:off x="2980440" y="1785600"/>
            <a:ext cx="377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◆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知无远近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里尚为邻。——唐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张九龄《送韦城李少府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◆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生交契无老少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论交何必先同调。——唐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杜甫《徒步归行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◆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同是天涯沦落人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逢何必曾相识。——唐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白居易《琵琶行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◆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盈盈一水间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脉脉不得语。——汉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古诗十九首《迢迢牵牛星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◆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丈夫志四海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里犹比邻。——三国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魏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曹植《赠白马王彪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对角圆角矩形 5"/>
          <p:cNvSpPr/>
          <p:nvPr/>
        </p:nvSpPr>
        <p:spPr>
          <a:xfrm>
            <a:off x="324000" y="1484280"/>
            <a:ext cx="8640720" cy="3673440"/>
          </a:xfrm>
          <a:custGeom>
            <a:avLst/>
            <a:gdLst/>
            <a:ahLst/>
            <a:rect l="l" t="t" r="r" b="b"/>
            <a:pathLst>
              <a:path w="8640960" h="3672408">
                <a:moveTo>
                  <a:pt x="612080" y="0"/>
                </a:moveTo>
                <a:lnTo>
                  <a:pt x="8640960" y="0"/>
                </a:lnTo>
                <a:lnTo>
                  <a:pt x="8640960" y="0"/>
                </a:lnTo>
                <a:lnTo>
                  <a:pt x="8640960" y="3060327"/>
                </a:lnTo>
                <a:cubicBezTo>
                  <a:pt x="8640960" y="3398369"/>
                  <a:pt x="8366922" y="3672407"/>
                  <a:pt x="8028880" y="3672407"/>
                </a:cubicBezTo>
                <a:lnTo>
                  <a:pt x="0" y="3672408"/>
                </a:lnTo>
                <a:lnTo>
                  <a:pt x="0" y="3672408"/>
                </a:lnTo>
                <a:lnTo>
                  <a:pt x="0" y="612080"/>
                </a:lnTo>
                <a:cubicBezTo>
                  <a:pt x="0" y="274038"/>
                  <a:pt x="274038" y="0"/>
                  <a:pt x="612080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zhxx.jpg" descr=""/>
          <p:cNvPicPr/>
          <p:nvPr/>
        </p:nvPicPr>
        <p:blipFill>
          <a:blip r:embed="rId1"/>
          <a:stretch/>
        </p:blipFill>
        <p:spPr>
          <a:xfrm>
            <a:off x="1403280" y="189000"/>
            <a:ext cx="3745080" cy="720720"/>
          </a:xfrm>
          <a:prstGeom prst="rect">
            <a:avLst/>
          </a:prstGeom>
          <a:ln w="0">
            <a:noFill/>
          </a:ln>
        </p:spPr>
      </p:pic>
      <p:pic>
        <p:nvPicPr>
          <p:cNvPr id="80" name="scjn.jpg" descr=""/>
          <p:cNvPicPr/>
          <p:nvPr/>
        </p:nvPicPr>
        <p:blipFill>
          <a:blip r:embed="rId2"/>
          <a:stretch/>
        </p:blipFill>
        <p:spPr>
          <a:xfrm>
            <a:off x="6083280" y="260280"/>
            <a:ext cx="1873440" cy="432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1"/>
          <p:cNvSpPr/>
          <p:nvPr/>
        </p:nvSpPr>
        <p:spPr>
          <a:xfrm>
            <a:off x="2661480" y="933840"/>
            <a:ext cx="4187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◆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海内存知己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天涯若比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——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唐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王勃《送杜少府之任蜀州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◆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友如作画须求淡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山似论文不喜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——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清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翁照《与友人寻山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◆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文常会友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唯德自成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——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唐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祖咏《清明宴司勋刘郎中别业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◆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生结交在终结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莫为升沉中路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——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唐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贺兰进明《行路难五首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◆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少年乐新知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衰暮思故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——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唐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韩愈《除官赴阙至江州寄鄂岳李大夫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zhxx.jpg" descr=""/>
          <p:cNvPicPr/>
          <p:nvPr/>
        </p:nvPicPr>
        <p:blipFill>
          <a:blip r:embed="rId1"/>
          <a:stretch/>
        </p:blipFill>
        <p:spPr>
          <a:xfrm>
            <a:off x="2482920" y="189000"/>
            <a:ext cx="3744720" cy="720720"/>
          </a:xfrm>
          <a:prstGeom prst="rect">
            <a:avLst/>
          </a:prstGeom>
          <a:ln w="0">
            <a:noFill/>
          </a:ln>
        </p:spPr>
      </p:pic>
      <p:pic>
        <p:nvPicPr>
          <p:cNvPr id="83" name="scjn.jpg" descr=""/>
          <p:cNvPicPr/>
          <p:nvPr/>
        </p:nvPicPr>
        <p:blipFill>
          <a:blip r:embed="rId2"/>
          <a:stretch/>
        </p:blipFill>
        <p:spPr>
          <a:xfrm>
            <a:off x="6659640" y="476280"/>
            <a:ext cx="1871640" cy="4316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"/>
          <p:cNvSpPr/>
          <p:nvPr/>
        </p:nvSpPr>
        <p:spPr>
          <a:xfrm>
            <a:off x="2131200" y="1147320"/>
            <a:ext cx="5354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成语典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【上善若水】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语出《老子》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“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上善若水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善利万物而不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意思是说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高境界的善行就像水一样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具有滋养万物生命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德性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泽被万物而不争名利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所以天下最大的善行莫如水。老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水性来比喻有高尚品德者的人格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认为他们的品格像水那样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是柔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是停留在卑下的地方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是滋润万物而不与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投身于大地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无边大爱滋润其他生命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正如古人所说“到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送客棹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出岳润民田”。凡是能利物、利人之事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都尽力而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的这种特性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谓之“上善”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而人正应该像水一样。世界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柔的东西莫过于水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但它却能滴水穿石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正是“柔德”的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现。弱能胜强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柔可克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“柔德”济世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将爱溶于万千水滴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间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润物细无声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才是真正的大爱无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爱无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对角圆角矩形 5"/>
          <p:cNvSpPr/>
          <p:nvPr/>
        </p:nvSpPr>
        <p:spPr>
          <a:xfrm>
            <a:off x="108000" y="981000"/>
            <a:ext cx="8785080" cy="5040360"/>
          </a:xfrm>
          <a:custGeom>
            <a:avLst/>
            <a:gdLst/>
            <a:ahLst/>
            <a:rect l="l" t="t" r="r" b="b"/>
            <a:pathLst>
              <a:path w="8784976" h="5040560">
                <a:moveTo>
                  <a:pt x="840110" y="0"/>
                </a:moveTo>
                <a:lnTo>
                  <a:pt x="8784976" y="0"/>
                </a:lnTo>
                <a:lnTo>
                  <a:pt x="8784976" y="0"/>
                </a:lnTo>
                <a:lnTo>
                  <a:pt x="8784976" y="4200449"/>
                </a:lnTo>
                <a:cubicBezTo>
                  <a:pt x="8784976" y="4664429"/>
                  <a:pt x="8408846" y="5040559"/>
                  <a:pt x="7944866" y="5040559"/>
                </a:cubicBezTo>
                <a:lnTo>
                  <a:pt x="0" y="5040560"/>
                </a:lnTo>
                <a:lnTo>
                  <a:pt x="0" y="5040560"/>
                </a:lnTo>
                <a:lnTo>
                  <a:pt x="0" y="840110"/>
                </a:lnTo>
                <a:cubicBezTo>
                  <a:pt x="0" y="376130"/>
                  <a:pt x="376130" y="0"/>
                  <a:pt x="840110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对角圆角矩形 6"/>
          <p:cNvSpPr/>
          <p:nvPr/>
        </p:nvSpPr>
        <p:spPr>
          <a:xfrm>
            <a:off x="468360" y="1125360"/>
            <a:ext cx="1871640" cy="574920"/>
          </a:xfrm>
          <a:custGeom>
            <a:avLst/>
            <a:gdLst/>
            <a:ahLst/>
            <a:rect l="l" t="t" r="r" b="b"/>
            <a:pathLst>
              <a:path w="1872208" h="576064">
                <a:moveTo>
                  <a:pt x="96012" y="0"/>
                </a:moveTo>
                <a:lnTo>
                  <a:pt x="1872208" y="0"/>
                </a:lnTo>
                <a:lnTo>
                  <a:pt x="1872208" y="0"/>
                </a:lnTo>
                <a:lnTo>
                  <a:pt x="1872208" y="480051"/>
                </a:lnTo>
                <a:cubicBezTo>
                  <a:pt x="1872208" y="533077"/>
                  <a:pt x="1829222" y="576063"/>
                  <a:pt x="1776196" y="576063"/>
                </a:cubicBezTo>
                <a:lnTo>
                  <a:pt x="0" y="576064"/>
                </a:lnTo>
                <a:lnTo>
                  <a:pt x="0" y="576064"/>
                </a:lnTo>
                <a:lnTo>
                  <a:pt x="0" y="96012"/>
                </a:lnTo>
                <a:cubicBezTo>
                  <a:pt x="0" y="42986"/>
                  <a:pt x="42986" y="0"/>
                  <a:pt x="96012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2000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15T07:12:23Z</dcterms:created>
  <dc:creator>Administrator</dc:creator>
  <dc:description/>
  <dc:language>en-US</dc:language>
  <cp:lastModifiedBy>Windows 用户</cp:lastModifiedBy>
  <dcterms:modified xsi:type="dcterms:W3CDTF">2017-01-07T05:55:49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